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427-6068-4135-B8CD-9C5BE7B4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29F-BF34-405F-B4F0-C3A01E58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F70-EA4A-40E5-A804-1CACB2B2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A56-AFCA-40AD-AB54-CAE1946D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77B-891F-411D-9849-847C661B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2E4-2BF6-46F1-B7DF-08A8AD77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317-EC91-4109-AA59-E44DF2F2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EE1-4EDF-4C28-A525-EA0FF1C3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BDC-741F-49AC-AE43-9DE8FB6F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AF6-1BD5-44AB-9F7B-D6DF2AC2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4DF-9A16-42C7-BAC1-A5379DB9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9C5-8AB2-4F96-869A-483B086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E49A2-7D8D-4562-B2D7-F4136852E5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78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u Sorribes Carr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DejaVu Sans Condensed"/>
              </a:rPr>
              <a:t>Referente Edipo R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Las partes de la ob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sta tragedia tiene diferentes par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1. Las predicciones del oráculo de Tires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2. Asesinato de su padre (sin saber que es é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3. Cumplimiento de las predic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4. Edipo se casa con su mad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5. Culpabilidad del asesina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6. Suicidio de Yocasta y mas tarde de Edi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La historia de Ed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La historia de Edipo trata como tema principal la puesta en contra de la investigación que Edipo, el protagonista, comienza. En este caso Edipo acaba matando a su propio padre, rey de Tebas, y casandose con su mujer, la madre de Edi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Referentes Cinematof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ta tragedia, al dejar un final abierto, ha dejado en el cine algunas películas que siguen sus huellas como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. El planeta de los sim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2. La interpe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3.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4. Poderosa Afrod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matrix" descr=""/>
          <p:cNvPicPr/>
          <p:nvPr/>
        </p:nvPicPr>
        <p:blipFill>
          <a:blip r:embed=""/>
          <a:stretch/>
        </p:blipFill>
        <p:spPr>
          <a:xfrm>
            <a:off x="7199280" y="3419640"/>
            <a:ext cx="2879640" cy="4140000"/>
          </a:xfrm>
          <a:prstGeom prst="rect">
            <a:avLst/>
          </a:prstGeom>
          <a:ln w="0">
            <a:noFill/>
          </a:ln>
        </p:spPr>
      </p:pic>
      <p:pic>
        <p:nvPicPr>
          <p:cNvPr id="50" name="planeta-simios" descr=""/>
          <p:cNvPicPr/>
          <p:nvPr/>
        </p:nvPicPr>
        <p:blipFill>
          <a:blip r:embed=""/>
          <a:stretch/>
        </p:blipFill>
        <p:spPr>
          <a:xfrm>
            <a:off x="4768920" y="1260360"/>
            <a:ext cx="315108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lgunas de las imagenes que dan a ver la tragedia de Edipo son,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2zhm9m9" descr=""/>
          <p:cNvPicPr/>
          <p:nvPr/>
        </p:nvPicPr>
        <p:blipFill>
          <a:blip r:embed=""/>
          <a:stretch/>
        </p:blipFill>
        <p:spPr>
          <a:xfrm>
            <a:off x="-15840" y="3751200"/>
            <a:ext cx="2895480" cy="3810240"/>
          </a:xfrm>
          <a:prstGeom prst="rect">
            <a:avLst/>
          </a:prstGeom>
          <a:ln w="0">
            <a:noFill/>
          </a:ln>
        </p:spPr>
      </p:pic>
      <p:pic>
        <p:nvPicPr>
          <p:cNvPr id="54" name="aaas" descr=""/>
          <p:cNvPicPr/>
          <p:nvPr/>
        </p:nvPicPr>
        <p:blipFill>
          <a:blip r:embed=""/>
          <a:stretch/>
        </p:blipFill>
        <p:spPr>
          <a:xfrm>
            <a:off x="7794720" y="900000"/>
            <a:ext cx="2286000" cy="4546800"/>
          </a:xfrm>
          <a:prstGeom prst="rect">
            <a:avLst/>
          </a:prstGeom>
          <a:ln w="0">
            <a:noFill/>
          </a:ln>
        </p:spPr>
      </p:pic>
      <p:pic>
        <p:nvPicPr>
          <p:cNvPr id="55" name="edipo" descr=""/>
          <p:cNvPicPr/>
          <p:nvPr/>
        </p:nvPicPr>
        <p:blipFill>
          <a:blip r:embed=""/>
          <a:stretch/>
        </p:blipFill>
        <p:spPr>
          <a:xfrm>
            <a:off x="5219640" y="3780000"/>
            <a:ext cx="4319640" cy="3779640"/>
          </a:xfrm>
          <a:prstGeom prst="rect">
            <a:avLst/>
          </a:prstGeom>
          <a:ln w="0">
            <a:noFill/>
          </a:ln>
        </p:spPr>
      </p:pic>
      <p:pic>
        <p:nvPicPr>
          <p:cNvPr id="56" name="000720620" descr=""/>
          <p:cNvPicPr/>
          <p:nvPr/>
        </p:nvPicPr>
        <p:blipFill>
          <a:blip r:embed=""/>
          <a:stretch/>
        </p:blipFill>
        <p:spPr>
          <a:xfrm>
            <a:off x="2700360" y="900000"/>
            <a:ext cx="3060720" cy="4579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dur="indefinite" nodeType="afterEffect" fill="hold" presetClass="entr" presetID="4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dur="indefinite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7:22:35Z</dcterms:created>
  <dc:creator>. </dc:creator>
  <dc:description/>
  <dc:language>en-US</dc:language>
  <cp:lastModifiedBy/>
  <cp:revision>1</cp:revision>
  <dc:subject/>
  <dc:title/>
</cp:coreProperties>
</file>